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3DA-05D1-4461-898E-9A01366D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409-6160-4088-82F8-15CA6471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66B4B-D9A4-4C36-AFEB-F846B24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97DE5-B021-484D-8C4B-366C95F4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C26F0-8E6C-4885-B94B-698B55A9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FB90-9283-4BFD-9D0B-514C425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53E6-EC5A-4344-8546-62D36961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0330F-CD60-4C24-A91D-DE322FD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47D02-292C-4638-BCB0-BCA9A1E1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50B7E-AE0B-4CDF-B844-F019BDE3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A0712-CFDE-403E-9B91-36FB45D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ABAFF-4305-4D80-918F-8B82CD20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2FF-3B72-4231-8FE1-039BC2EF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C1C0F-6300-42FB-8D4C-75CA9A40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4D773-876E-4E0A-B73A-4B473D03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EDDDC-EAEA-4198-9A39-377B27D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54CF-6DA3-45A0-B724-54CC48FE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D01B-488D-4277-BD6B-292CA8A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C944-6A70-4D97-B2A6-35EE79A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E31B0-0E40-4EDD-AD5C-67EA72E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31BC-A324-4488-8076-E2CA149C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3DC9-83A7-4A37-B0C8-72E1D0A7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4DEF-1C29-4B32-A673-4294FCB8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4A0-C358-4D84-9D85-732B7ECC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318D7-6337-4CD1-A35B-5004A3B0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C2A59-8B20-42F2-8B76-B498F48F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D93BB-8A23-400A-B965-876EF0F6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9BCC8-0D27-4900-93A3-009601DA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93D04-D850-4952-B11B-1A7768D2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A39C2-406F-4AC1-9287-85E401FE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7D78-8891-4771-9478-15FEF1F4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E6D7-74E7-48F1-9A94-B3B18FA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90D4C-89B2-4F91-B5A6-E74D63C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451D8-96D1-4CA8-9E98-C1C2839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B3C9-BFAD-49E7-A155-6B645628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E7C65-BA2E-4932-A5F4-AAF67D35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FF1E3-B24D-46AD-A652-9AB1D78B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3A77-9F45-474A-BF0B-C1810BC2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18B3D-AE59-4BFD-9A82-0878EF29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FCB46-F99F-457D-A388-B04519EE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E25DC-4504-418E-9DC4-A86AB8D0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00090-875D-4FF2-81EF-161278D3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E2D2-A03B-40BF-89D5-9BDF0B51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DA4BD-E3A0-4AC2-A273-C152DF00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AA590-780B-44B9-82E1-C07BAE8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08E-A20B-493B-9FDD-E1385DEC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59D65-4D38-49CC-B864-5F93A153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C67B-8D4A-4F61-86A5-389059B2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E4CD1-563E-479F-A960-7A035C8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88DE-32E8-47D7-BB01-F1496EBF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C3666-A69C-4237-BD2F-81844900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FC8-B07E-42E3-B7C1-ECA61579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950-036F-4D2C-BB24-D012C76A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D72-298C-4904-AA34-C6D28B7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CD5-22DD-4413-BED4-A26B63E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277A-E17E-44D3-BE4D-36DAEF6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2F2-A2F4-4AD6-854C-3D64344F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F77-AE6D-4B83-AD05-02B9DA9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5830-D94F-49C7-B9F2-1E68B2D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0068-58C8-40F8-9A37-C81F007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FB7A-88AC-4A46-BEBB-BC5F2ED3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8AFE-530F-4F5B-B71F-13416A92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930D-B1A3-44D3-8159-B1410AA6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DB73-45B4-49EC-A2A1-2E03E917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FEEF-4326-46D5-90AA-E8686E5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F1BF-F65A-44C4-9BFC-984DF507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E5FC-C4CE-4DF8-ACBF-6E432EE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FE4-B872-42C7-ACAC-DD516AE5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369A-C917-46B1-AFF6-E128034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0178-1B48-4DA7-9C2E-DADA026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D5C2-4F18-4ACE-A084-46DA593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58CC-5CD2-4B74-8D4D-C7E6B0C9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40CD-808E-4729-B5F5-B3E8C6B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A9C1-0617-455D-BB1B-CF3F6B82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CEEF-529B-49DD-9114-C5761DFE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41BA-5C82-491D-99FF-CEA83CDC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AEBC-E02B-4441-83A5-03C8E382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7E55-9F76-441C-AFA2-6C5CECC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CC2-DA77-4E70-BA8E-79F43CA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3907-C388-416F-8C90-5974C699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2F9B-309C-4460-A8F4-190D263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EDE8-295B-47F3-8A60-F7021BA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2AED-6837-49A3-AE3C-A7E9AE1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D079-B9CD-428E-8A53-3C44F019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8F25-EDE0-4ACB-B3F7-42CFD9B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C33F-9473-4458-BDDA-7C800E3F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F2FC-4BD6-4634-A165-BA753B41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5522-3886-4B09-B15D-C6A43BF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677E-FE50-495F-A2D7-9E78D4E7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626-07A0-417E-A993-D744AE2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1C7C-0C5C-4BD8-B7EC-C805173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B2E5-928D-4DE4-B8FB-CDDDF728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DF61-8258-4F90-B217-AA844479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F727-BC43-4FB5-BE7D-5E67F931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8C88-8E05-4F78-AC50-72DA078C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EAF88-3ECF-4140-9883-8E241BB9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D355-53FF-455D-96EA-A96EBD2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B4AA-FBA8-4B17-B05F-0EDCEEE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6A7C-01FA-4D9C-9D2B-5491979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3252-BED5-4B94-B016-04BE8F32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FE6-56A8-4A0B-81BA-EC1864F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41B8-F53D-4FD4-A635-48405576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5E48D-2BAB-41B0-B7DB-374F22AF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1A9A0-DA83-478C-9084-97BBD3DA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FDB15-B9C4-46D7-BEE3-1F79453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C593-A64B-4B6D-9F05-DF3C94EF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23CA-B1BA-46EB-B3B2-A53B5562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F15C4-B95F-4EEF-BD39-1711F57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2627-7815-414F-ABAB-94B8725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24D29-97DB-46BC-8764-4F05B3C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DF13-6587-4127-8335-6339D20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316-6AD0-4C04-9F10-51A1C96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1070-EE0C-4DA1-BFCE-A8519C81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FBA2-97EA-4415-9C45-EED1E00C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12FA-4E5B-492D-80BD-AD3A30EE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EF34-CA85-48CD-832D-B9059C91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CB731-8B7A-4C4B-9518-0FE7679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42717-45D9-4FE4-AC00-07F4B9D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F4B2F-BE73-48BF-9A9B-2EE41AE6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BB5E-45C2-4CA5-BB14-6B211AC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8C4B-429A-460E-8A0A-FD9B40E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1CDB4-36D9-4736-B4A7-5F14DE4D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40A-D617-4685-9424-F84A29D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D9BE-4B4B-4BDF-B137-7112100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B8E1E-7C56-495C-BC27-B45ABD7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7422C-C0E4-405D-9BA6-3E22D46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A57E-C51D-4EB1-A6D0-7F212AF8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2350-68F0-4172-9268-4C3DD9BF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E1C93-9DC8-43C8-8ABE-D42F6C86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1BD3-DCAF-4D96-A5A0-59792CA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37F53-7840-4436-8D83-783A2A9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5658E-B961-4223-B44D-5828679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010E0-AA73-4539-A0B0-33B006A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D66-8F5B-470D-829A-3D27341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2747-D986-4180-A10D-A001682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143C-0115-44E0-A6F3-50055CE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358E1-2606-4DD8-90F8-404B61E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1B87B-6CFC-4FF9-8A15-2175DF0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9AE24-14A1-44BF-B00B-7087D916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6CD59-6960-4931-8CD4-AD1D2016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FA518-8B36-4810-832A-DDD309A5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5B79B-82B4-410C-B67F-C568406A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FB411-4C31-4C5B-BA61-1D6EA389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0A180-588C-4294-B19B-CB084FA7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7DF-CD6D-42E0-A63E-8DC2F32119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7CE-D84E-4978-B6F8-4DAB696C98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A7E5-0C61-443B-91B3-12E8E49783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09E0-A79C-4DC6-A7D3-0C39FE8FFB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2FAA-DA4F-45B2-9182-5FC6908BB9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7458-222F-41C8-83F8-77BE5F7B80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9E1F-EABF-425C-B881-89798EE700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A7E0-E63D-4D70-B90B-7DA7425F75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508-FF40-4BA3-BE53-3EFF45705B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F2C5-3F0A-416B-968D-6F366CC98E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D49-C9B3-48EF-8E16-6E67F15252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510-4C87-4691-97E8-2300AC7B7A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2 Už otvorte sa, krídla b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otvorte sa, krídla b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môže voj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Kráľ a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večný Vládca víťaz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áchranca náš všemoc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ojde slávny Hrdi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jeho veľká, bezmedzná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plnosť krásy, svät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arca všetk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Kristus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lásky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človek nikdy nie j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n dom môž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šetci túžia s Páno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srdce jemu otvor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áskou k nemu zaho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ude večne bývať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obdarí ho spas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pasiteľ náš drahý, prí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obraz 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obnov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oviesť nás do slávy b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áš si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Boh a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9:00:22Z</dcterms:modified>
  <cp:revision>9</cp:revision>
  <dc:subject/>
  <dc:title>Je veľký náš Pán, on slávy je Kráľ Nech do všetkých strán  spev vrúcnych znie chvál.</dc:title>
</cp:coreProperties>
</file>